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2.wmf" ContentType="image/x-wmf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0B4C-B205-4933-A6AD-1CD779E24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D724-7D47-4289-8168-9662F0C9C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D3D3-3219-493B-BA34-454A2E38E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5CE1-06FB-4589-BEC0-62993DDA0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538C-AAF7-4D80-A4D8-2A3709AEE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AE37-47EF-48A0-BE84-107AEDD66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62FB-FD26-47A3-BE4C-980ECA1F8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E27E-486B-4BA8-B00D-47CA47C63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C56C-5482-40AA-ADC9-DAB081A16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1EFD-AA2F-4050-91BB-16592298E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193E-DBAC-47D6-9BB8-D615CC76E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A352-08A0-48B7-944D-C1891334A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A3F31-8DE4-4F2D-8B8E-9166C9DF55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>
            <a:hlinkClick r:id="" action="ppaction://hlinkshowjump?jump=nextslide"/>
          </p:cNvPr>
          <p:cNvSpPr/>
          <p:nvPr/>
        </p:nvSpPr>
        <p:spPr>
          <a:xfrm>
            <a:off x="8532720" y="6669000"/>
            <a:ext cx="611280" cy="189000"/>
          </a:xfrm>
          <a:custGeom>
            <a:avLst/>
            <a:gdLst>
              <a:gd name="textAreaLeft" fmla="*/ 12240 w 611280"/>
              <a:gd name="textAreaRight" fmla="*/ 599040 w 61128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69769" h="21600">
                <a:moveTo>
                  <a:pt x="0" y="0"/>
                </a:moveTo>
                <a:lnTo>
                  <a:pt x="69769" y="0"/>
                </a:lnTo>
                <a:lnTo>
                  <a:pt x="69769" y="21600"/>
                </a:lnTo>
                <a:lnTo>
                  <a:pt x="0" y="21600"/>
                </a:lnTo>
                <a:close/>
              </a:path>
              <a:path fill="lightenLess" w="69769" h="21600">
                <a:moveTo>
                  <a:pt x="0" y="0"/>
                </a:moveTo>
                <a:lnTo>
                  <a:pt x="69769" y="0"/>
                </a:lnTo>
                <a:lnTo>
                  <a:pt x="68369" y="1400"/>
                </a:lnTo>
                <a:lnTo>
                  <a:pt x="1400" y="1400"/>
                </a:lnTo>
                <a:close/>
              </a:path>
              <a:path fill="darken" w="69769" h="21600">
                <a:moveTo>
                  <a:pt x="69769" y="0"/>
                </a:moveTo>
                <a:lnTo>
                  <a:pt x="69769" y="21600"/>
                </a:lnTo>
                <a:lnTo>
                  <a:pt x="68369" y="20200"/>
                </a:lnTo>
                <a:lnTo>
                  <a:pt x="68369" y="1400"/>
                </a:lnTo>
                <a:close/>
              </a:path>
              <a:path fill="darkenLess" w="69769" h="21600">
                <a:moveTo>
                  <a:pt x="69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69" y="20200"/>
                </a:lnTo>
                <a:close/>
              </a:path>
              <a:path fill="lighten" w="69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769" h="21600">
                <a:moveTo>
                  <a:pt x="27878" y="3794"/>
                </a:moveTo>
                <a:lnTo>
                  <a:pt x="41891" y="10800"/>
                </a:lnTo>
                <a:lnTo>
                  <a:pt x="27878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>
            <a:hlinkClick r:id="rId2" action="ppaction://hlinksldjump"/>
          </p:cNvPr>
          <p:cNvSpPr/>
          <p:nvPr/>
        </p:nvSpPr>
        <p:spPr>
          <a:xfrm>
            <a:off x="7885080" y="6669000"/>
            <a:ext cx="647640" cy="189000"/>
          </a:xfrm>
          <a:custGeom>
            <a:avLst/>
            <a:gdLst>
              <a:gd name="textAreaLeft" fmla="*/ 12240 w 647640"/>
              <a:gd name="textAreaRight" fmla="*/ 635400 w 64764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73916" h="21600">
                <a:moveTo>
                  <a:pt x="0" y="0"/>
                </a:moveTo>
                <a:lnTo>
                  <a:pt x="73916" y="0"/>
                </a:lnTo>
                <a:lnTo>
                  <a:pt x="73916" y="21600"/>
                </a:lnTo>
                <a:lnTo>
                  <a:pt x="0" y="21600"/>
                </a:lnTo>
                <a:close/>
              </a:path>
              <a:path fill="lightenLess" w="73916" h="21600">
                <a:moveTo>
                  <a:pt x="0" y="0"/>
                </a:moveTo>
                <a:lnTo>
                  <a:pt x="73916" y="0"/>
                </a:lnTo>
                <a:lnTo>
                  <a:pt x="72516" y="1400"/>
                </a:lnTo>
                <a:lnTo>
                  <a:pt x="1400" y="1400"/>
                </a:lnTo>
                <a:close/>
              </a:path>
              <a:path fill="darken" w="73916" h="21600">
                <a:moveTo>
                  <a:pt x="73916" y="0"/>
                </a:moveTo>
                <a:lnTo>
                  <a:pt x="73916" y="21600"/>
                </a:lnTo>
                <a:lnTo>
                  <a:pt x="72516" y="20200"/>
                </a:lnTo>
                <a:lnTo>
                  <a:pt x="72516" y="1400"/>
                </a:lnTo>
                <a:close/>
              </a:path>
              <a:path fill="darkenLess" w="73916" h="21600">
                <a:moveTo>
                  <a:pt x="739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516" y="20200"/>
                </a:lnTo>
                <a:close/>
              </a:path>
              <a:path fill="lighten" w="739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916" h="21600">
                <a:moveTo>
                  <a:pt x="36958" y="3837"/>
                </a:moveTo>
                <a:lnTo>
                  <a:pt x="39534" y="6448"/>
                </a:lnTo>
                <a:lnTo>
                  <a:pt x="39534" y="4707"/>
                </a:lnTo>
                <a:lnTo>
                  <a:pt x="41310" y="4707"/>
                </a:lnTo>
                <a:lnTo>
                  <a:pt x="41310" y="8224"/>
                </a:lnTo>
                <a:lnTo>
                  <a:pt x="43921" y="10800"/>
                </a:lnTo>
                <a:lnTo>
                  <a:pt x="42267" y="10800"/>
                </a:lnTo>
                <a:lnTo>
                  <a:pt x="42267" y="17989"/>
                </a:lnTo>
                <a:lnTo>
                  <a:pt x="31649" y="17989"/>
                </a:lnTo>
                <a:lnTo>
                  <a:pt x="31649" y="10800"/>
                </a:lnTo>
                <a:lnTo>
                  <a:pt x="29995" y="10800"/>
                </a:lnTo>
                <a:close/>
              </a:path>
              <a:path fill="darkenLess" w="73916" h="21600">
                <a:moveTo>
                  <a:pt x="39534" y="6448"/>
                </a:moveTo>
                <a:lnTo>
                  <a:pt x="39534" y="4707"/>
                </a:lnTo>
                <a:lnTo>
                  <a:pt x="41310" y="4707"/>
                </a:lnTo>
                <a:lnTo>
                  <a:pt x="41310" y="8224"/>
                </a:lnTo>
                <a:close/>
              </a:path>
              <a:path fill="darkenLess" w="73916" h="21600">
                <a:moveTo>
                  <a:pt x="36036" y="14299"/>
                </a:moveTo>
                <a:lnTo>
                  <a:pt x="37881" y="14299"/>
                </a:lnTo>
                <a:lnTo>
                  <a:pt x="37881" y="17989"/>
                </a:lnTo>
                <a:lnTo>
                  <a:pt x="42267" y="17989"/>
                </a:lnTo>
                <a:lnTo>
                  <a:pt x="42267" y="10800"/>
                </a:lnTo>
                <a:lnTo>
                  <a:pt x="31649" y="10800"/>
                </a:lnTo>
                <a:lnTo>
                  <a:pt x="31649" y="17989"/>
                </a:lnTo>
                <a:lnTo>
                  <a:pt x="36036" y="17989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>
            <a:hlinkClick r:id="" action="ppaction://hlinkshowjump?jump=endshow"/>
          </p:cNvPr>
          <p:cNvSpPr/>
          <p:nvPr/>
        </p:nvSpPr>
        <p:spPr>
          <a:xfrm>
            <a:off x="7451640" y="6669000"/>
            <a:ext cx="432000" cy="189000"/>
          </a:xfrm>
          <a:custGeom>
            <a:avLst/>
            <a:gdLst>
              <a:gd name="textAreaLeft" fmla="*/ 12240 w 432000"/>
              <a:gd name="textAreaRight" fmla="*/ 419760 w 43200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49319" h="21600">
                <a:moveTo>
                  <a:pt x="0" y="0"/>
                </a:moveTo>
                <a:lnTo>
                  <a:pt x="49319" y="0"/>
                </a:lnTo>
                <a:lnTo>
                  <a:pt x="49319" y="21600"/>
                </a:lnTo>
                <a:lnTo>
                  <a:pt x="0" y="21600"/>
                </a:lnTo>
                <a:close/>
              </a:path>
              <a:path fill="lightenLess" w="49319" h="21600">
                <a:moveTo>
                  <a:pt x="0" y="0"/>
                </a:moveTo>
                <a:lnTo>
                  <a:pt x="49319" y="0"/>
                </a:lnTo>
                <a:lnTo>
                  <a:pt x="47919" y="1400"/>
                </a:lnTo>
                <a:lnTo>
                  <a:pt x="1400" y="1400"/>
                </a:lnTo>
                <a:close/>
              </a:path>
              <a:path fill="darken" w="49319" h="21600">
                <a:moveTo>
                  <a:pt x="49319" y="0"/>
                </a:moveTo>
                <a:lnTo>
                  <a:pt x="49319" y="21600"/>
                </a:lnTo>
                <a:lnTo>
                  <a:pt x="47919" y="20200"/>
                </a:lnTo>
                <a:lnTo>
                  <a:pt x="47919" y="1400"/>
                </a:lnTo>
                <a:close/>
              </a:path>
              <a:path fill="darkenLess" w="49319" h="21600">
                <a:moveTo>
                  <a:pt x="493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19" y="20200"/>
                </a:lnTo>
                <a:close/>
              </a:path>
              <a:path fill="lighten" w="493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211640" y="2781360"/>
            <a:ext cx="4464000" cy="24494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cccc00"/>
              </a:gs>
              <a:gs pos="50000">
                <a:srgbClr val="ccff33"/>
              </a:gs>
              <a:gs pos="100000">
                <a:srgbClr val="cc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3300"/>
                </a:solidFill>
                <a:latin typeface="Arial"/>
              </a:rPr>
              <a:t>Лекция №6</a:t>
            </a: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" action="ppaction://hlinkshowjump?jump=nextslide"/>
          </p:cNvPr>
          <p:cNvSpPr/>
          <p:nvPr/>
        </p:nvSpPr>
        <p:spPr>
          <a:xfrm>
            <a:off x="8532720" y="6669000"/>
            <a:ext cx="611280" cy="189000"/>
          </a:xfrm>
          <a:custGeom>
            <a:avLst/>
            <a:gdLst>
              <a:gd name="textAreaLeft" fmla="*/ 12240 w 611280"/>
              <a:gd name="textAreaRight" fmla="*/ 599040 w 61128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69769" h="21600">
                <a:moveTo>
                  <a:pt x="0" y="0"/>
                </a:moveTo>
                <a:lnTo>
                  <a:pt x="69769" y="0"/>
                </a:lnTo>
                <a:lnTo>
                  <a:pt x="69769" y="21600"/>
                </a:lnTo>
                <a:lnTo>
                  <a:pt x="0" y="21600"/>
                </a:lnTo>
                <a:close/>
              </a:path>
              <a:path fill="lightenLess" w="69769" h="21600">
                <a:moveTo>
                  <a:pt x="0" y="0"/>
                </a:moveTo>
                <a:lnTo>
                  <a:pt x="69769" y="0"/>
                </a:lnTo>
                <a:lnTo>
                  <a:pt x="68369" y="1400"/>
                </a:lnTo>
                <a:lnTo>
                  <a:pt x="1400" y="1400"/>
                </a:lnTo>
                <a:close/>
              </a:path>
              <a:path fill="darken" w="69769" h="21600">
                <a:moveTo>
                  <a:pt x="69769" y="0"/>
                </a:moveTo>
                <a:lnTo>
                  <a:pt x="69769" y="21600"/>
                </a:lnTo>
                <a:lnTo>
                  <a:pt x="68369" y="20200"/>
                </a:lnTo>
                <a:lnTo>
                  <a:pt x="68369" y="1400"/>
                </a:lnTo>
                <a:close/>
              </a:path>
              <a:path fill="darkenLess" w="69769" h="21600">
                <a:moveTo>
                  <a:pt x="69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69" y="20200"/>
                </a:lnTo>
                <a:close/>
              </a:path>
              <a:path fill="lighten" w="69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769" h="21600">
                <a:moveTo>
                  <a:pt x="27878" y="3794"/>
                </a:moveTo>
                <a:lnTo>
                  <a:pt x="41891" y="10800"/>
                </a:lnTo>
                <a:lnTo>
                  <a:pt x="27878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3717720" cy="4753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324000" y="333360"/>
            <a:ext cx="8135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кислительно-восстановительные  реакции</a:t>
            </a:r>
            <a:endParaRPr b="1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98E1-6D17-4B2B-AA3D-063ED59DAEA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68360" y="0"/>
            <a:ext cx="8229600" cy="1403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Важнейшие восстановители и окислите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5200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60FB-0B32-47AE-98F9-AEC74CB8B36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Элементы в промежуточной степени окисления. H2+O–2. 2О– +2е?2О-2. H2+O2–. 2О– -2е? О20. О20. S+4 +6e ? S–2. Na2S–2. Na2S+4O3. S0. S+4 +4e ? S0. S+4 – 2e ? S+6. Na2S+6O4."/>
          <p:cNvPicPr/>
          <p:nvPr/>
        </p:nvPicPr>
        <p:blipFill>
          <a:blip r:embed="rId1"/>
          <a:srcRect l="0" t="6593" r="0" b="8973"/>
          <a:stretch/>
        </p:blipFill>
        <p:spPr>
          <a:xfrm>
            <a:off x="324000" y="260280"/>
            <a:ext cx="8424720" cy="6319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4ED8-B8DF-4B7D-9818-9EAE1E03F62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Типы ОВР. 2сu0 +O20? 2cu2+o2–. 3H2S?2 +H2S+6O4 ? 4S0 + 4H2O. 6KI? + 4H2S+6O4 ? 3I20+S0 +3K2SO4+4H2O. (N–3H4)2Cr2+6O7 (t0) ? N20 + Cr2+3O3 + 4H2O. 2NaN+5O3–2 ? 2NaN+3O2 + O20. Межмолекулярные. Внутримолекулярные. Диспропорционирование. KCl+5O3–2 ? 2KCl– + 3O20. 4KCl+5O3?KCl?+3KCl+7O4. Cl20 + 2KOH ? KCl? +KCl+1O +H2O. 4Na2S+4O3 ? Na2S?2 + 3Na2S+6O4."/>
          <p:cNvPicPr/>
          <p:nvPr/>
        </p:nvPicPr>
        <p:blipFill>
          <a:blip r:embed="rId1"/>
          <a:srcRect l="0" t="4367" r="0" b="6747"/>
          <a:stretch/>
        </p:blipFill>
        <p:spPr>
          <a:xfrm>
            <a:off x="684360" y="1239840"/>
            <a:ext cx="7416720" cy="5562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682560" y="258480"/>
            <a:ext cx="794412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лассификация окислительно-восстановительных реакций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4E43-4D51-48A8-A4A7-D05EAFFCDB3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Межмолекулярные окислительно-восстановительные реа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кислитель и восстановитель находятся в разных веществах; обмен электронами в этих реакциях происходит между различными атомами или молекул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7960" y="219600"/>
            <a:ext cx="7790400" cy="131976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лассификация окислительно-восстановительных реакций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403280" y="3429000"/>
            <a:ext cx="6042240" cy="21686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11280" y="5516640"/>
            <a:ext cx="784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юда же относятся реакции между веществами, в которых атомы одного и того же элемента имеют разные степени окис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6299280"/>
            <a:ext cx="9144000" cy="547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9F78-A3E4-4BED-90D9-4803F1F3CD2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Внутримолекулярные окислительно- восстановительные реа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1268280"/>
            <a:ext cx="856908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внутримолекулярных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акциях окислитель и восстановитель находятся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в одной и той ж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лекул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нутримолекулярные реакции протекают, как правило, пр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термическом разложен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еществ, содержащих окислитель и восстановител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0" y="3570120"/>
            <a:ext cx="9144000" cy="2187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6C72-6B97-49E5-9377-2C402390F43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Arial"/>
              </a:rPr>
              <a:t>Диспропорционирование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ислительно-восстановительная реакция, в которой один элемент одновременно повышает и понижает степень окис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3807000"/>
            <a:ext cx="9144000" cy="140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F3EA-2ABD-41BF-A911-5F5EE1C3DAC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       Электронный баланс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метод нахождения коэффициентов в уравнениях окислительно-восстановительных реакций, в котором рассматривается обмен электронами между атомами элементов, изменяющих свою степень окисл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Число электронов, отданное восстановителем, равно числу электронов, получаемых окислител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35400" y="452880"/>
            <a:ext cx="7873200" cy="10692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Составление уравнений окислительно-восстановительных реакций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C673-358A-455D-B3A4-E26C544A25C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68360" y="404640"/>
            <a:ext cx="80643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ставление уравнений ОВР</a:t>
            </a:r>
            <a:endParaRPr b="0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етодом электронного баланса</a:t>
            </a:r>
            <a:endParaRPr b="0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" name=""/>
          <p:cNvSpPr/>
          <p:nvPr/>
        </p:nvSpPr>
        <p:spPr>
          <a:xfrm>
            <a:off x="285840" y="1773360"/>
            <a:ext cx="8858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Метод основа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на сравнении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степеней окисления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атомов в исходных веществах и продуктах реакции и на балансировании числа электронов, смещенных от  восстановителя к окислител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Метод применяетс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для составления уравнений реакций, протекающих в любых фаз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этом универсальность и удобство мет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Недостаток мето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при выражении сущности реакций, протекающих в растворах, не отражается существование реальных части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previousslide"/>
          </p:cNvPr>
          <p:cNvSpPr/>
          <p:nvPr/>
        </p:nvSpPr>
        <p:spPr>
          <a:xfrm>
            <a:off x="6877080" y="6669000"/>
            <a:ext cx="576360" cy="189000"/>
          </a:xfrm>
          <a:custGeom>
            <a:avLst/>
            <a:gdLst>
              <a:gd name="textAreaLeft" fmla="*/ 12240 w 576360"/>
              <a:gd name="textAreaRight" fmla="*/ 564120 w 57636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65786" h="21600">
                <a:moveTo>
                  <a:pt x="0" y="0"/>
                </a:moveTo>
                <a:lnTo>
                  <a:pt x="65786" y="0"/>
                </a:lnTo>
                <a:lnTo>
                  <a:pt x="65786" y="21600"/>
                </a:lnTo>
                <a:lnTo>
                  <a:pt x="0" y="21600"/>
                </a:lnTo>
                <a:close/>
              </a:path>
              <a:path fill="lightenLess" w="65786" h="21600">
                <a:moveTo>
                  <a:pt x="0" y="0"/>
                </a:moveTo>
                <a:lnTo>
                  <a:pt x="65786" y="0"/>
                </a:lnTo>
                <a:lnTo>
                  <a:pt x="64386" y="1400"/>
                </a:lnTo>
                <a:lnTo>
                  <a:pt x="1400" y="1400"/>
                </a:lnTo>
                <a:close/>
              </a:path>
              <a:path fill="darken" w="65786" h="21600">
                <a:moveTo>
                  <a:pt x="65786" y="0"/>
                </a:moveTo>
                <a:lnTo>
                  <a:pt x="65786" y="21600"/>
                </a:lnTo>
                <a:lnTo>
                  <a:pt x="64386" y="20200"/>
                </a:lnTo>
                <a:lnTo>
                  <a:pt x="64386" y="1400"/>
                </a:lnTo>
                <a:close/>
              </a:path>
              <a:path fill="darkenLess" w="65786" h="21600">
                <a:moveTo>
                  <a:pt x="65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386" y="20200"/>
                </a:lnTo>
                <a:close/>
              </a:path>
              <a:path fill="lighten" w="65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786" h="21600">
                <a:moveTo>
                  <a:pt x="25886" y="10800"/>
                </a:moveTo>
                <a:lnTo>
                  <a:pt x="39899" y="3794"/>
                </a:lnTo>
                <a:lnTo>
                  <a:pt x="39899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40BA-41B5-47DC-97BC-E13632628D2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620640"/>
            <a:ext cx="9144000" cy="57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оставить схему реак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пределить степени окисления элементов в реагентах и продуктах реак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пределить, является реакция окислительно-восстановительной или она протекает без изменения степеней окисления элемен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одчеркнуть элементы, степени окисления которых изменяют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пределить, какой элемент окисляется (его степень окисления повышается) и какой элемент восстанавливается (его степень окисления понижается) в процессе реак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 левой части схемы обозначить с помощью стрелок процесс окисления (смещение электронов от атома элемента) и процесс восстановления (смещение электронов к атому элемент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пределить восстановитель и окислител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балансировать число электронов между окислителем и восстановител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пределить коэффициенты для окислителя и восстановителя, продуктов окисления и восстановл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Записать коэффициент перед формулой вещества, определяющего среду раство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оверить уравнение реак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previousslide"/>
          </p:cNvPr>
          <p:cNvSpPr/>
          <p:nvPr/>
        </p:nvSpPr>
        <p:spPr>
          <a:xfrm>
            <a:off x="6877080" y="6669000"/>
            <a:ext cx="576360" cy="189000"/>
          </a:xfrm>
          <a:custGeom>
            <a:avLst/>
            <a:gdLst>
              <a:gd name="textAreaLeft" fmla="*/ 12240 w 576360"/>
              <a:gd name="textAreaRight" fmla="*/ 564120 w 57636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65786" h="21600">
                <a:moveTo>
                  <a:pt x="0" y="0"/>
                </a:moveTo>
                <a:lnTo>
                  <a:pt x="65786" y="0"/>
                </a:lnTo>
                <a:lnTo>
                  <a:pt x="65786" y="21600"/>
                </a:lnTo>
                <a:lnTo>
                  <a:pt x="0" y="21600"/>
                </a:lnTo>
                <a:close/>
              </a:path>
              <a:path fill="lightenLess" w="65786" h="21600">
                <a:moveTo>
                  <a:pt x="0" y="0"/>
                </a:moveTo>
                <a:lnTo>
                  <a:pt x="65786" y="0"/>
                </a:lnTo>
                <a:lnTo>
                  <a:pt x="64386" y="1400"/>
                </a:lnTo>
                <a:lnTo>
                  <a:pt x="1400" y="1400"/>
                </a:lnTo>
                <a:close/>
              </a:path>
              <a:path fill="darken" w="65786" h="21600">
                <a:moveTo>
                  <a:pt x="65786" y="0"/>
                </a:moveTo>
                <a:lnTo>
                  <a:pt x="65786" y="21600"/>
                </a:lnTo>
                <a:lnTo>
                  <a:pt x="64386" y="20200"/>
                </a:lnTo>
                <a:lnTo>
                  <a:pt x="64386" y="1400"/>
                </a:lnTo>
                <a:close/>
              </a:path>
              <a:path fill="darkenLess" w="65786" h="21600">
                <a:moveTo>
                  <a:pt x="65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386" y="20200"/>
                </a:lnTo>
                <a:close/>
              </a:path>
              <a:path fill="lighten" w="65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786" h="21600">
                <a:moveTo>
                  <a:pt x="25886" y="10800"/>
                </a:moveTo>
                <a:lnTo>
                  <a:pt x="39899" y="3794"/>
                </a:lnTo>
                <a:lnTo>
                  <a:pt x="39899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7937640" cy="355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8407-7353-464F-A384-D6A499CAD73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971640" y="1135080"/>
            <a:ext cx="6696000" cy="5722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624960" y="156600"/>
            <a:ext cx="7916400" cy="94104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Составление уравнений </a:t>
            </a:r>
            <a:br>
              <a:rPr sz="2800"/>
            </a:b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окислительно-восстановительных реакций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5FD9-1F0A-40CA-9BEC-2CB04F0C6E9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95280" y="189000"/>
            <a:ext cx="8497800" cy="1511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тепень окис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780000" y="981000"/>
            <a:ext cx="48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8532720" y="6669000"/>
            <a:ext cx="611280" cy="189000"/>
          </a:xfrm>
          <a:custGeom>
            <a:avLst/>
            <a:gdLst>
              <a:gd name="textAreaLeft" fmla="*/ 12240 w 611280"/>
              <a:gd name="textAreaRight" fmla="*/ 599040 w 61128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69769" h="21600">
                <a:moveTo>
                  <a:pt x="0" y="0"/>
                </a:moveTo>
                <a:lnTo>
                  <a:pt x="69769" y="0"/>
                </a:lnTo>
                <a:lnTo>
                  <a:pt x="69769" y="21600"/>
                </a:lnTo>
                <a:lnTo>
                  <a:pt x="0" y="21600"/>
                </a:lnTo>
                <a:close/>
              </a:path>
              <a:path fill="lightenLess" w="69769" h="21600">
                <a:moveTo>
                  <a:pt x="0" y="0"/>
                </a:moveTo>
                <a:lnTo>
                  <a:pt x="69769" y="0"/>
                </a:lnTo>
                <a:lnTo>
                  <a:pt x="68369" y="1400"/>
                </a:lnTo>
                <a:lnTo>
                  <a:pt x="1400" y="1400"/>
                </a:lnTo>
                <a:close/>
              </a:path>
              <a:path fill="darken" w="69769" h="21600">
                <a:moveTo>
                  <a:pt x="69769" y="0"/>
                </a:moveTo>
                <a:lnTo>
                  <a:pt x="69769" y="21600"/>
                </a:lnTo>
                <a:lnTo>
                  <a:pt x="68369" y="20200"/>
                </a:lnTo>
                <a:lnTo>
                  <a:pt x="68369" y="1400"/>
                </a:lnTo>
                <a:close/>
              </a:path>
              <a:path fill="darkenLess" w="69769" h="21600">
                <a:moveTo>
                  <a:pt x="69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69" y="20200"/>
                </a:lnTo>
                <a:close/>
              </a:path>
              <a:path fill="lighten" w="69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769" h="21600">
                <a:moveTo>
                  <a:pt x="27878" y="3794"/>
                </a:moveTo>
                <a:lnTo>
                  <a:pt x="41891" y="10800"/>
                </a:lnTo>
                <a:lnTo>
                  <a:pt x="27878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1" action="ppaction://hlinksldjump"/>
          </p:cNvPr>
          <p:cNvSpPr/>
          <p:nvPr/>
        </p:nvSpPr>
        <p:spPr>
          <a:xfrm>
            <a:off x="7885080" y="6669000"/>
            <a:ext cx="647640" cy="189000"/>
          </a:xfrm>
          <a:custGeom>
            <a:avLst/>
            <a:gdLst>
              <a:gd name="textAreaLeft" fmla="*/ 12240 w 647640"/>
              <a:gd name="textAreaRight" fmla="*/ 635400 w 64764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73916" h="21600">
                <a:moveTo>
                  <a:pt x="0" y="0"/>
                </a:moveTo>
                <a:lnTo>
                  <a:pt x="73916" y="0"/>
                </a:lnTo>
                <a:lnTo>
                  <a:pt x="73916" y="21600"/>
                </a:lnTo>
                <a:lnTo>
                  <a:pt x="0" y="21600"/>
                </a:lnTo>
                <a:close/>
              </a:path>
              <a:path fill="lightenLess" w="73916" h="21600">
                <a:moveTo>
                  <a:pt x="0" y="0"/>
                </a:moveTo>
                <a:lnTo>
                  <a:pt x="73916" y="0"/>
                </a:lnTo>
                <a:lnTo>
                  <a:pt x="72516" y="1400"/>
                </a:lnTo>
                <a:lnTo>
                  <a:pt x="1400" y="1400"/>
                </a:lnTo>
                <a:close/>
              </a:path>
              <a:path fill="darken" w="73916" h="21600">
                <a:moveTo>
                  <a:pt x="73916" y="0"/>
                </a:moveTo>
                <a:lnTo>
                  <a:pt x="73916" y="21600"/>
                </a:lnTo>
                <a:lnTo>
                  <a:pt x="72516" y="20200"/>
                </a:lnTo>
                <a:lnTo>
                  <a:pt x="72516" y="1400"/>
                </a:lnTo>
                <a:close/>
              </a:path>
              <a:path fill="darkenLess" w="73916" h="21600">
                <a:moveTo>
                  <a:pt x="739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516" y="20200"/>
                </a:lnTo>
                <a:close/>
              </a:path>
              <a:path fill="lighten" w="739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916" h="21600">
                <a:moveTo>
                  <a:pt x="36958" y="3837"/>
                </a:moveTo>
                <a:lnTo>
                  <a:pt x="39534" y="6448"/>
                </a:lnTo>
                <a:lnTo>
                  <a:pt x="39534" y="4707"/>
                </a:lnTo>
                <a:lnTo>
                  <a:pt x="41310" y="4707"/>
                </a:lnTo>
                <a:lnTo>
                  <a:pt x="41310" y="8224"/>
                </a:lnTo>
                <a:lnTo>
                  <a:pt x="43921" y="10800"/>
                </a:lnTo>
                <a:lnTo>
                  <a:pt x="42267" y="10800"/>
                </a:lnTo>
                <a:lnTo>
                  <a:pt x="42267" y="17989"/>
                </a:lnTo>
                <a:lnTo>
                  <a:pt x="31649" y="17989"/>
                </a:lnTo>
                <a:lnTo>
                  <a:pt x="31649" y="10800"/>
                </a:lnTo>
                <a:lnTo>
                  <a:pt x="29995" y="10800"/>
                </a:lnTo>
                <a:close/>
              </a:path>
              <a:path fill="darkenLess" w="73916" h="21600">
                <a:moveTo>
                  <a:pt x="39534" y="6448"/>
                </a:moveTo>
                <a:lnTo>
                  <a:pt x="39534" y="4707"/>
                </a:lnTo>
                <a:lnTo>
                  <a:pt x="41310" y="4707"/>
                </a:lnTo>
                <a:lnTo>
                  <a:pt x="41310" y="8224"/>
                </a:lnTo>
                <a:close/>
              </a:path>
              <a:path fill="darkenLess" w="73916" h="21600">
                <a:moveTo>
                  <a:pt x="36036" y="14299"/>
                </a:moveTo>
                <a:lnTo>
                  <a:pt x="37881" y="14299"/>
                </a:lnTo>
                <a:lnTo>
                  <a:pt x="37881" y="17989"/>
                </a:lnTo>
                <a:lnTo>
                  <a:pt x="42267" y="17989"/>
                </a:lnTo>
                <a:lnTo>
                  <a:pt x="42267" y="10800"/>
                </a:lnTo>
                <a:lnTo>
                  <a:pt x="31649" y="10800"/>
                </a:lnTo>
                <a:lnTo>
                  <a:pt x="31649" y="17989"/>
                </a:lnTo>
                <a:lnTo>
                  <a:pt x="36036" y="17989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" action="ppaction://hlinkshowjump?jump=previousslide"/>
          </p:cNvPr>
          <p:cNvSpPr/>
          <p:nvPr/>
        </p:nvSpPr>
        <p:spPr>
          <a:xfrm>
            <a:off x="7236000" y="6669000"/>
            <a:ext cx="649080" cy="189000"/>
          </a:xfrm>
          <a:custGeom>
            <a:avLst/>
            <a:gdLst>
              <a:gd name="textAreaLeft" fmla="*/ 12240 w 649080"/>
              <a:gd name="textAreaRight" fmla="*/ 636840 w 64908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74081" h="21600">
                <a:moveTo>
                  <a:pt x="0" y="0"/>
                </a:moveTo>
                <a:lnTo>
                  <a:pt x="74081" y="0"/>
                </a:lnTo>
                <a:lnTo>
                  <a:pt x="74081" y="21600"/>
                </a:lnTo>
                <a:lnTo>
                  <a:pt x="0" y="21600"/>
                </a:lnTo>
                <a:close/>
              </a:path>
              <a:path fill="lightenLess" w="74081" h="21600">
                <a:moveTo>
                  <a:pt x="0" y="0"/>
                </a:moveTo>
                <a:lnTo>
                  <a:pt x="74081" y="0"/>
                </a:lnTo>
                <a:lnTo>
                  <a:pt x="72681" y="1400"/>
                </a:lnTo>
                <a:lnTo>
                  <a:pt x="1400" y="1400"/>
                </a:lnTo>
                <a:close/>
              </a:path>
              <a:path fill="darken" w="74081" h="21600">
                <a:moveTo>
                  <a:pt x="74081" y="0"/>
                </a:moveTo>
                <a:lnTo>
                  <a:pt x="74081" y="21600"/>
                </a:lnTo>
                <a:lnTo>
                  <a:pt x="72681" y="20200"/>
                </a:lnTo>
                <a:lnTo>
                  <a:pt x="72681" y="1400"/>
                </a:lnTo>
                <a:close/>
              </a:path>
              <a:path fill="darkenLess" w="74081" h="21600">
                <a:moveTo>
                  <a:pt x="740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681" y="20200"/>
                </a:lnTo>
                <a:close/>
              </a:path>
              <a:path fill="lighten" w="740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4081" h="21600">
                <a:moveTo>
                  <a:pt x="30034" y="10800"/>
                </a:moveTo>
                <a:lnTo>
                  <a:pt x="44047" y="3794"/>
                </a:lnTo>
                <a:lnTo>
                  <a:pt x="44047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" action="ppaction://hlinkshowjump?jump=endshow"/>
          </p:cNvPr>
          <p:cNvSpPr/>
          <p:nvPr/>
        </p:nvSpPr>
        <p:spPr>
          <a:xfrm>
            <a:off x="6588000" y="6669000"/>
            <a:ext cx="648000" cy="189000"/>
          </a:xfrm>
          <a:custGeom>
            <a:avLst/>
            <a:gdLst>
              <a:gd name="textAreaLeft" fmla="*/ 12240 w 648000"/>
              <a:gd name="textAreaRight" fmla="*/ 635760 w 64800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73957" h="21600">
                <a:moveTo>
                  <a:pt x="0" y="0"/>
                </a:moveTo>
                <a:lnTo>
                  <a:pt x="73957" y="0"/>
                </a:lnTo>
                <a:lnTo>
                  <a:pt x="73957" y="21600"/>
                </a:lnTo>
                <a:lnTo>
                  <a:pt x="0" y="21600"/>
                </a:lnTo>
                <a:close/>
              </a:path>
              <a:path fill="lightenLess" w="73957" h="21600">
                <a:moveTo>
                  <a:pt x="0" y="0"/>
                </a:moveTo>
                <a:lnTo>
                  <a:pt x="73957" y="0"/>
                </a:lnTo>
                <a:lnTo>
                  <a:pt x="72557" y="1400"/>
                </a:lnTo>
                <a:lnTo>
                  <a:pt x="1400" y="1400"/>
                </a:lnTo>
                <a:close/>
              </a:path>
              <a:path fill="darken" w="73957" h="21600">
                <a:moveTo>
                  <a:pt x="73957" y="0"/>
                </a:moveTo>
                <a:lnTo>
                  <a:pt x="73957" y="21600"/>
                </a:lnTo>
                <a:lnTo>
                  <a:pt x="72557" y="20200"/>
                </a:lnTo>
                <a:lnTo>
                  <a:pt x="72557" y="1400"/>
                </a:lnTo>
                <a:close/>
              </a:path>
              <a:path fill="darkenLess" w="73957" h="21600">
                <a:moveTo>
                  <a:pt x="739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557" y="20200"/>
                </a:lnTo>
                <a:close/>
              </a:path>
              <a:path fill="lighten" w="739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2060640"/>
            <a:ext cx="820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епень окисления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условный заряд атома в молекуле, вычисленный в предположении, что молекула состоит из ионов и в целом электронейтраль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иболее электроотрицательные элементы в соединении имеют отрицательные степени окисления, а атомы элементов с меньшей электроотрицательностью - положитель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епень окисления - формальное понятие; в ряде случаев степень окисления не совпадает с валентност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58920" y="4394160"/>
            <a:ext cx="734544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На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N</a:t>
            </a:r>
            <a:r>
              <a:rPr b="0" lang="ru-RU" sz="2000" spc="-1" strike="noStrike" baseline="-30000">
                <a:solidFill>
                  <a:srgbClr val="0000ff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H</a:t>
            </a:r>
            <a:r>
              <a:rPr b="0" lang="ru-RU" sz="2000" spc="-1" strike="noStrike" baseline="-30000">
                <a:solidFill>
                  <a:srgbClr val="0000ff"/>
                </a:solidFill>
                <a:latin typeface="Arial"/>
                <a:ea typeface="Arial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(гидрази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               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тепень окисления азота – -2; валентность азота – 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851280" y="5084640"/>
            <a:ext cx="1440000" cy="67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9675-A8D8-4E2B-BFDF-B11E641BDCAF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B      Электронно-ионный баланс (метод полуреакций) 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метод нахождения коэффициентов, в котором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матривается обмен электронами между ионами в растворе с учетом характера сре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46560" y="438480"/>
            <a:ext cx="7873200" cy="10692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Составление уравнений окислительно-восстановительных реакций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E99C-D769-41B8-8072-F4F46B719F7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11280" y="333360"/>
            <a:ext cx="770580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ставление уравнений ОВР методом</a:t>
            </a:r>
            <a:endParaRPr b="0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луреакций или ионно-электронным методом</a:t>
            </a:r>
            <a:endParaRPr b="0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" name=""/>
          <p:cNvSpPr/>
          <p:nvPr/>
        </p:nvSpPr>
        <p:spPr>
          <a:xfrm>
            <a:off x="135000" y="2060640"/>
            <a:ext cx="88819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08000"/>
                </a:solidFill>
                <a:latin typeface="Arial"/>
              </a:rPr>
              <a:t>Метод основа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на составлении ионно-электронных уравнений для процессов окисления и восстановления с учетом реально существующих частиц и последующим суммированием их в общее уравн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08000"/>
                </a:solidFill>
                <a:latin typeface="Arial"/>
              </a:rPr>
              <a:t>Метод применяетс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для выражения сущности окислительно-восстанови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льных реакций , протекающих только в раствор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08000"/>
                </a:solidFill>
                <a:latin typeface="Arial"/>
              </a:rPr>
              <a:t>Достоинство метод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В электронно-ионных уравнениях полуреакций записываются ионы, реаль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уществующие в водном растворе, а не условные частиц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Понятие «степень окисления» не используе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При использовании этого метода не нужно знать все вещества: он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пределяются при выводе уравнения реак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Видна роль среды как активного участника всего процес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previousslide"/>
          </p:cNvPr>
          <p:cNvSpPr/>
          <p:nvPr/>
        </p:nvSpPr>
        <p:spPr>
          <a:xfrm>
            <a:off x="6877080" y="6669000"/>
            <a:ext cx="576360" cy="189000"/>
          </a:xfrm>
          <a:custGeom>
            <a:avLst/>
            <a:gdLst>
              <a:gd name="textAreaLeft" fmla="*/ 12240 w 576360"/>
              <a:gd name="textAreaRight" fmla="*/ 564120 w 57636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65786" h="21600">
                <a:moveTo>
                  <a:pt x="0" y="0"/>
                </a:moveTo>
                <a:lnTo>
                  <a:pt x="65786" y="0"/>
                </a:lnTo>
                <a:lnTo>
                  <a:pt x="65786" y="21600"/>
                </a:lnTo>
                <a:lnTo>
                  <a:pt x="0" y="21600"/>
                </a:lnTo>
                <a:close/>
              </a:path>
              <a:path fill="lightenLess" w="65786" h="21600">
                <a:moveTo>
                  <a:pt x="0" y="0"/>
                </a:moveTo>
                <a:lnTo>
                  <a:pt x="65786" y="0"/>
                </a:lnTo>
                <a:lnTo>
                  <a:pt x="64386" y="1400"/>
                </a:lnTo>
                <a:lnTo>
                  <a:pt x="1400" y="1400"/>
                </a:lnTo>
                <a:close/>
              </a:path>
              <a:path fill="darken" w="65786" h="21600">
                <a:moveTo>
                  <a:pt x="65786" y="0"/>
                </a:moveTo>
                <a:lnTo>
                  <a:pt x="65786" y="21600"/>
                </a:lnTo>
                <a:lnTo>
                  <a:pt x="64386" y="20200"/>
                </a:lnTo>
                <a:lnTo>
                  <a:pt x="64386" y="1400"/>
                </a:lnTo>
                <a:close/>
              </a:path>
              <a:path fill="darkenLess" w="65786" h="21600">
                <a:moveTo>
                  <a:pt x="65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386" y="20200"/>
                </a:lnTo>
                <a:close/>
              </a:path>
              <a:path fill="lighten" w="65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786" h="21600">
                <a:moveTo>
                  <a:pt x="25886" y="10800"/>
                </a:moveTo>
                <a:lnTo>
                  <a:pt x="39899" y="3794"/>
                </a:lnTo>
                <a:lnTo>
                  <a:pt x="39899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49DF-A9A3-49D5-B70B-4ABE5DA2D31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549360"/>
            <a:ext cx="9032760" cy="60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Записываем ионную схему процесса, которая включает только восстановитель и продукт его окисления и окислитель и продукт его восстановления: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n+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&gt;  Z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+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ляем ионно-электронное уравнение процесса окисления(эт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луреакция)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n - 2ē -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ляем ионно-электронное уравнение процесса восстановления(эт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луреакция)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 + 2H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+ ē -&gt; 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+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исываем уравнения полуреакций так, чтобы число электронов между окислителем и  восстановителем было сбалансирова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n - 2ē -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 + 2H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+  ē-&gt;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ммируем почленно уравнения полуреакций. Составляем общее ионное уравнение реакции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n + 2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+ 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+ 2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+2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яем правильность составления уравнения реакции в ионном вид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число атомов элементов должно быть равно в левой и в правой частях уравн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общий заряд частиц в левой и правой частях ионного уравнения должен быть одина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Записываем уравнение в молекулярной форме. Для этого добавляем к ионам, входящим в ионное уравнение, необходимое число ионов противоположного заряда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n + 4H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ц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Zn(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+ 2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+2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3141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" action="ppaction://hlinkshowjump?jump=previousslide"/>
          </p:cNvPr>
          <p:cNvSpPr/>
          <p:nvPr/>
        </p:nvSpPr>
        <p:spPr>
          <a:xfrm>
            <a:off x="6948360" y="6669000"/>
            <a:ext cx="576360" cy="189000"/>
          </a:xfrm>
          <a:custGeom>
            <a:avLst/>
            <a:gdLst>
              <a:gd name="textAreaLeft" fmla="*/ 12240 w 576360"/>
              <a:gd name="textAreaRight" fmla="*/ 564120 w 57636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65786" h="21600">
                <a:moveTo>
                  <a:pt x="0" y="0"/>
                </a:moveTo>
                <a:lnTo>
                  <a:pt x="65786" y="0"/>
                </a:lnTo>
                <a:lnTo>
                  <a:pt x="65786" y="21600"/>
                </a:lnTo>
                <a:lnTo>
                  <a:pt x="0" y="21600"/>
                </a:lnTo>
                <a:close/>
              </a:path>
              <a:path fill="lightenLess" w="65786" h="21600">
                <a:moveTo>
                  <a:pt x="0" y="0"/>
                </a:moveTo>
                <a:lnTo>
                  <a:pt x="65786" y="0"/>
                </a:lnTo>
                <a:lnTo>
                  <a:pt x="64386" y="1400"/>
                </a:lnTo>
                <a:lnTo>
                  <a:pt x="1400" y="1400"/>
                </a:lnTo>
                <a:close/>
              </a:path>
              <a:path fill="darken" w="65786" h="21600">
                <a:moveTo>
                  <a:pt x="65786" y="0"/>
                </a:moveTo>
                <a:lnTo>
                  <a:pt x="65786" y="21600"/>
                </a:lnTo>
                <a:lnTo>
                  <a:pt x="64386" y="20200"/>
                </a:lnTo>
                <a:lnTo>
                  <a:pt x="64386" y="1400"/>
                </a:lnTo>
                <a:close/>
              </a:path>
              <a:path fill="darkenLess" w="65786" h="21600">
                <a:moveTo>
                  <a:pt x="65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386" y="20200"/>
                </a:lnTo>
                <a:close/>
              </a:path>
              <a:path fill="lighten" w="65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786" h="21600">
                <a:moveTo>
                  <a:pt x="25886" y="10800"/>
                </a:moveTo>
                <a:lnTo>
                  <a:pt x="39899" y="3794"/>
                </a:lnTo>
                <a:lnTo>
                  <a:pt x="39899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11280" y="115920"/>
            <a:ext cx="808668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лгоритм составления уравнения ОВР методом полуреакций</a:t>
            </a:r>
            <a:endParaRPr b="1" lang="en-US" sz="2400" spc="1" strike="noStrike">
              <a:ln w="0">
                <a:noFill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5690-8F09-47F3-90DA-65ABFBAD3F7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ЛИЯНИЕ СРЕДЫ НА ПРОТЕКАНИЕ ОКИСЛИТЕЛЬНО-ВОССТАНОВИТЕЛЬ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1403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ВЛИЯНИЕ СРЕДЫ НА ПРОТЕКАНИЕ </a:t>
            </a:r>
            <a:br>
              <a:rPr sz="2400"/>
            </a:b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ОКИСЛИТЕЛЬНО-ВОССТАНОВИТЕЛЬНЫХ РЕА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68360" y="2133720"/>
          <a:ext cx="8351640" cy="3419280"/>
        </p:xfrm>
        <a:graphic>
          <a:graphicData uri="http://schemas.openxmlformats.org/drawingml/2006/table">
            <a:tbl>
              <a:tblPr/>
              <a:tblGrid>
                <a:gridCol w="1942920"/>
                <a:gridCol w="3024360"/>
                <a:gridCol w="338436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К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БЫТОК АТОМОВ КИСЛОР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ДОСТАТОК АТОМОВ КИСЛОР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сл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H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nH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+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nH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= 2nH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йтраль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nH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= 2nOH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nH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= 2nH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щелоч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nH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= 2nOH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nOH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nH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+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289D-FC4A-4F16-93B0-7657555150B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акции с участием перманганата калия в качестве окислителя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1840" y="402840"/>
            <a:ext cx="823320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ВЛИЯНИЕ СРЕДЫ НА ПРОТЕКАНИЕ ОКИСЛИТЕЛЬНО-ВОССТАНОВИТЕЛЬНЫХ РЕА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95640" y="206064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акции в кислой сре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95280" y="3357720"/>
            <a:ext cx="8280360" cy="34668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84360" y="2637000"/>
            <a:ext cx="7416720" cy="64908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ff33"/>
                </a:solidFill>
                <a:latin typeface="Arial"/>
              </a:rPr>
              <a:t>В кислой среде кислород отдают молекулы вод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ff33"/>
                </a:solidFill>
                <a:latin typeface="Arial"/>
              </a:rPr>
              <a:t>а связывается он ионами водор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A093-D389-4EAB-B808-0DB4C6E5CDE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акции в нейтральной сре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93120" y="402840"/>
            <a:ext cx="841248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ВЛИЯНИЕ СРЕДЫ НА ПРОТЕКАНИЕ ОКИСЛИТЕЛЬНО-ВОССТАНОВИТЕЛЬНЫХ РЕА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2565360"/>
            <a:ext cx="9144000" cy="36054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50920" y="6197400"/>
            <a:ext cx="85690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Фиолетовый раствор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MnO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после окончания реакции обесцвечивается и наблюдается выпадение бурого осад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4360" y="1773360"/>
            <a:ext cx="7561080" cy="64908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ff33"/>
                </a:solidFill>
                <a:latin typeface="Arial"/>
              </a:rPr>
              <a:t>В нейтральной среде добавление и связы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ff33"/>
                </a:solidFill>
                <a:latin typeface="Arial"/>
              </a:rPr>
              <a:t>атомов кислорода осуществляется только молекулами 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80FC-8998-47A2-8341-16646F86C7E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6200" y="142560"/>
            <a:ext cx="822168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ВЛИЯНИЕ СРЕДЫ НА ПРОТЕКАНИЕ ОКИСЛИТЕЛЬНО-ВОССТАНОВИТЕЛЬНЫХ РЕА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908000" y="134136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акции в щелочной сре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2781360"/>
            <a:ext cx="9144000" cy="38988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755640" y="1989000"/>
            <a:ext cx="7416720" cy="64944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ff33"/>
                </a:solidFill>
                <a:latin typeface="Arial"/>
              </a:rPr>
              <a:t>В щелочной среде кислород предоставляют ионы ОН</a:t>
            </a:r>
            <a:r>
              <a:rPr b="1" i="1" lang="en-US" sz="1800" spc="-1" strike="noStrike">
                <a:solidFill>
                  <a:srgbClr val="ccff33"/>
                </a:solidFill>
                <a:latin typeface="Arial"/>
                <a:ea typeface="Arial"/>
              </a:rPr>
              <a:t>¯</a:t>
            </a:r>
            <a:r>
              <a:rPr b="1" i="1" lang="ru-RU" sz="1800" spc="-1" strike="noStrike">
                <a:solidFill>
                  <a:srgbClr val="ccff33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ff33"/>
                </a:solidFill>
                <a:latin typeface="Arial"/>
              </a:rPr>
              <a:t>а связывается он молекулами 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34FE-94BA-4DC8-9D23-B7CEC1B6AD6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763640" y="1628640"/>
            <a:ext cx="5545080" cy="43196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466200" y="142560"/>
            <a:ext cx="822168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ВЛИЯНИЕ СРЕДЫ НА ПРОТЕКАНИЕ ОКИСЛИТЕЛЬНО-ВОССТАНОВИТЕЛЬНЫХ РЕА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A70E-C887-44E3-A3A3-F0FA9AE2131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 взаимодействии веществ, содержащих в своем составе элементы в промежуточных степенях окисления о направлении реакции судят по окислительно-восстановительными потенциалами, которые характеризуют работу, затрачиваемую на отрыв электронов при переходе вещества из восстановленной формы в окисленную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кислительно-восстановительный потенциал </a:t>
            </a:r>
            <a:r>
              <a:rPr b="1" lang="el-GR" sz="2400" spc="-1" strike="noStrike">
                <a:solidFill>
                  <a:srgbClr val="663300"/>
                </a:solidFill>
                <a:latin typeface="Arial"/>
                <a:ea typeface="Arial"/>
              </a:rPr>
              <a:t>φ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  <a:ea typeface="Arial"/>
              </a:rPr>
              <a:t>-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количественная характеристика окислительно-восстановительной па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-171360"/>
            <a:ext cx="9144000" cy="1700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Определение направления протекания окислительно-восстановительных реак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F7F2-42D3-4C2F-AE0D-A994D30D67C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лгоритм действ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 таблице потенциалов определяют потенциалы окислителя и восстановите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ходят их алгебраическую сум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сли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0, то процесс возмож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сли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0,  то процесс невозмож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сли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= 0, то химическое равновес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еакция будет протекать в том случае, если окислительно-восстановительный потенциал окислителя выше, чем восстановителя, а их разница больше ну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      </a:t>
            </a:r>
            <a:r>
              <a:rPr b="0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Примечание. Во всех справочниках </a:t>
            </a:r>
            <a:r>
              <a:rPr b="1" lang="el-GR" sz="1600" spc="-1" strike="noStrike">
                <a:solidFill>
                  <a:srgbClr val="ff6600"/>
                </a:solidFill>
                <a:latin typeface="Arial"/>
                <a:ea typeface="Arial"/>
              </a:rPr>
              <a:t>φ</a:t>
            </a:r>
            <a:r>
              <a:rPr b="1" lang="ru-RU" sz="1600" spc="-1" strike="noStrike" baseline="30000">
                <a:solidFill>
                  <a:srgbClr val="ff6600"/>
                </a:solidFill>
                <a:latin typeface="Arial"/>
                <a:ea typeface="Arial"/>
              </a:rPr>
              <a:t>0 </a:t>
            </a:r>
            <a:r>
              <a:rPr b="0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указаны</a:t>
            </a:r>
            <a:r>
              <a:rPr b="1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 для окислител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Arial"/>
              </a:rPr>
              <a:t>  </a:t>
            </a:r>
            <a:r>
              <a:rPr b="1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Для восстановителей </a:t>
            </a:r>
            <a:r>
              <a:rPr b="0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берут процесс в </a:t>
            </a:r>
            <a:r>
              <a:rPr b="1" i="1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обратном направлении с противоположным знак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-171360"/>
            <a:ext cx="9144000" cy="1700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Определение направления протекания окислительно-восстановительных реак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98C9-4E45-47DE-9008-7F696285362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00120" y="417240"/>
            <a:ext cx="794412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счет степени окис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1341360"/>
            <a:ext cx="8229600" cy="45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Для вычисления степени окисления элемента следует учитывать следующие поло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      Степени окисления атомов в простых веществах равны нулю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      Постоянную степень окисления имеют атом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щелочных металлов (+1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щелочноземельных металлов (+2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дорода (+1) (кроме гидридо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H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др., где степень окисления водорода -1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ислорода (-2) (кром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пероксидов, содержащих группу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, в которой степень окисления кислорода -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BD91-7BF3-4611-AA67-BC1A8C52DD3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Возможен ли процесс: 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Cu +</a:t>
            </a: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FeCl</a:t>
            </a:r>
            <a:r>
              <a:rPr b="1" lang="en-US" sz="3200" spc="-1" strike="noStrike" baseline="-25000">
                <a:solidFill>
                  <a:srgbClr val="6633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663300"/>
                </a:solidFill>
                <a:latin typeface="Arial Narrow"/>
              </a:rPr>
              <a:t>→</a:t>
            </a:r>
            <a:r>
              <a:rPr b="1" lang="ru-RU" sz="3200" spc="-1" strike="noStrike">
                <a:solidFill>
                  <a:srgbClr val="663300"/>
                </a:solidFill>
                <a:latin typeface="Arial Narrow"/>
              </a:rPr>
              <a:t>? +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ыписывают из справочника все вариан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u – 2e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→ Cu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 Narrow"/>
              </a:rPr>
              <a:t>+2     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-0,34 B   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u – 1e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→ Cu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 Narrow"/>
              </a:rPr>
              <a:t>+1     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-0,52 B   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+ 1e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+0,77 B   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+ 3e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0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+0,33 B   (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дет тот процесс, где алгебраическая сумма потенциалов наибольшая 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0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Этому условию удовлетворяют варианты 1 и 3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 +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→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С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u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+ 2Fe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5F08-DF9E-4C1E-ABC3-9325CABADFC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900000" y="1440"/>
            <a:ext cx="7344000" cy="6855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3669-412A-49BD-B0B3-F3AC07E6A84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68360" y="4221000"/>
            <a:ext cx="8229600" cy="19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р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  N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  K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 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  N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6920" y="331560"/>
            <a:ext cx="794412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тепень окис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9640" y="1413000"/>
            <a:ext cx="8097840" cy="25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      Алгебраическая сумма степеней окисления всех атомов, входящих в состав молекулы, всегда равна нулю, а в сложном ионе эта сумма равна заряду ио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      Для элементов положительная степень окисления не может превышать величину, равную номеру группы периодической систе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274680"/>
            <a:ext cx="8229600" cy="11430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счет степени окис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2AEC-2651-470F-A50F-55D1DC2FF6A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11280" y="402840"/>
            <a:ext cx="794412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Реакции без и с изменением степени окисления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Существует два типа химических реакц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A      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кции, в которых не изменяется степень окисления элемент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Реакции присоед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a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Реакции разл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(OH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 CuO +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Реакции обм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N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Cl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gC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OH + H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a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5719-5786-4E2B-98D5-8B1DA66DBB3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B     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акции, в которых происходит изменение степеней окисления атомов элементов, входящих в состав реагирующих соединен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M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M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K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 2K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K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K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4H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кие реакции называются </a:t>
            </a:r>
            <a:r>
              <a:rPr b="0" i="1" lang="ru-RU" sz="2800" spc="-1" strike="noStrike">
                <a:solidFill>
                  <a:srgbClr val="663300"/>
                </a:solidFill>
                <a:latin typeface="Arial"/>
              </a:rPr>
              <a:t>окислительно - восстановительны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719640" y="180000"/>
            <a:ext cx="7869600" cy="10800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Реакции без и с изменением степени окислени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D609-0B71-49BC-BF03-651751E1CE1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716760" y="177120"/>
            <a:ext cx="7875360" cy="106344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Окисление, восстановление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окислительно-восстановительных реакциях электроны от одних атомов, молекул или ионов переходят к другим. Процесс отдачи электронов - </a:t>
            </a:r>
            <a:r>
              <a:rPr b="0" i="1" lang="ru-RU" sz="2800" spc="-1" strike="noStrike">
                <a:solidFill>
                  <a:srgbClr val="663300"/>
                </a:solidFill>
                <a:latin typeface="Arial"/>
              </a:rPr>
              <a:t>окисление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и окислении степень окисления повышае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2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2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3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 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2ē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r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435640" y="3933720"/>
            <a:ext cx="2857320" cy="185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0C3D-1DB5-4935-B14A-52A3B1808B4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24000" y="691920"/>
            <a:ext cx="8229600" cy="49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цесс присоединения электронов – </a:t>
            </a:r>
            <a:r>
              <a:rPr b="0" i="1" lang="ru-RU" sz="2400" spc="-1" strike="noStrike">
                <a:solidFill>
                  <a:srgbClr val="663300"/>
                </a:solidFill>
                <a:latin typeface="Arial"/>
              </a:rPr>
              <a:t>восстановление.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восстановлении степень окисления понижа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2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2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3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2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4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томы или ионы, которые в данной реакции присоединяют электроны являются </a:t>
            </a:r>
            <a:r>
              <a:rPr b="0" i="1" lang="ru-RU" sz="2400" spc="-1" strike="noStrike">
                <a:solidFill>
                  <a:srgbClr val="006600"/>
                </a:solidFill>
                <a:latin typeface="Arial"/>
              </a:rPr>
              <a:t>окислителя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а которые отдают электроны - </a:t>
            </a:r>
            <a:r>
              <a:rPr b="0" i="1" lang="ru-RU" sz="2400" spc="-1" strike="noStrike">
                <a:solidFill>
                  <a:srgbClr val="006600"/>
                </a:solidFill>
                <a:latin typeface="Arial"/>
              </a:rPr>
              <a:t>восстановителя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00720" y="1557360"/>
            <a:ext cx="4392360" cy="2854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0918-1845-4CE1-B547-25917FD9AD1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643680" y="175320"/>
            <a:ext cx="7878960" cy="105264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Окислительно-восстановительные свойства вещества и степени окисления входящих в него атомов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0" y="145728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единения, содержащие атомы элементов с максимальной степенью окисления, могут быть только окислителями за счет этих атомов, т.к. они уже отдали все свои валентные электроны и способны только принимать электро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ксимальная степень окисления атома элемента равна номеру группы в периодической таблице, к которой относится данный элемен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Соединения, содержащие атомы элементов с минимальной степенью окисления, могут служить только восстановителями, поскольку они способны лишь отдавать электроны, потому, что внешний энергетический уровень у таких атомов завершен восемью электронами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Минимальная степень окисления у атомов металлов равна 0, для неметаллов - (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–8) (где 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- номер группы в периодической системе)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Соединения, содержащие атомы элементов с промежуточной степенью окисления, могут быть и окислителями и восстановителями, в зависимости от партнера, с которым взаимодействуют и от условий реак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5412-DAD6-4307-887B-AC658AA0D74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0T12:50:36Z</dcterms:created>
  <dc:creator>Юля</dc:creator>
  <dc:description/>
  <dc:language>en-US</dc:language>
  <cp:lastModifiedBy>User</cp:lastModifiedBy>
  <dcterms:modified xsi:type="dcterms:W3CDTF">2011-11-30T10:37:33Z</dcterms:modified>
  <cp:revision>38</cp:revision>
  <dc:subject/>
  <dc:title>Слайд 1</dc:title>
</cp:coreProperties>
</file>